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B622-9006-498B-8C45-C6D56947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BEC-3A9D-473E-A328-6D7EE23D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39C-AE0D-4051-AE2B-8F936F34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F53-7322-4356-A610-70F1D746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D1BE-A322-4C9B-BB89-B940A801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081B-AC81-42F1-88AE-A080721B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DCF-5E1C-4A0A-8581-10BEA8A0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9EF5-26D8-481A-94D3-81A7E099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554-CFEF-4776-BE6D-85A3254E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D87-2550-4E57-94BB-E3935BAB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EAA-9261-4B3D-B2A8-76C7C4B8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81F1-2E2A-43FE-9AFC-FBF85539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909E-2D31-4FAC-B1F0-DA5743084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0882400">
            <a:off x="499320" y="1673280"/>
            <a:ext cx="5256360" cy="3110400"/>
          </a:xfrm>
          <a:prstGeom prst="rect">
            <a:avLst/>
          </a:prstGeom>
          <a:solidFill>
            <a:srgbClr val="a1a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Berlin Sans FB Demi"/>
              </a:rPr>
              <a:t>Answer My Questions!!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12000" y="2487600"/>
            <a:ext cx="25336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404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 Demi"/>
              </a:rPr>
              <a:t>Question Ti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197000"/>
            <a:ext cx="7921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 Demi"/>
              </a:rPr>
              <a:t>Are spiders ins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 Demi"/>
              </a:rPr>
              <a:t>What does ant e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 Demi"/>
              </a:rPr>
              <a:t>Are ants ins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 Demi"/>
              </a:rPr>
              <a:t>What are ins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 Demi"/>
              </a:rPr>
              <a:t>What are the colours of ant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348000" y="1268280"/>
            <a:ext cx="29527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erlin Sans FB Demi"/>
              </a:rPr>
              <a:t>Spiders are not insect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419640" y="1773360"/>
            <a:ext cx="21906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erlin Sans FB Demi"/>
              </a:rPr>
              <a:t>Ants eat crumb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987640" y="2276640"/>
            <a:ext cx="20764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erlin Sans FB Demi"/>
              </a:rPr>
              <a:t>Ants are insect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32000" y="2852640"/>
            <a:ext cx="57247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erlin Sans FB Demi"/>
              </a:rPr>
              <a:t>Insects are little creatures that have 6 leg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716360" y="3363840"/>
            <a:ext cx="20574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erlin Sans FB Demi"/>
              </a:rPr>
              <a:t>Black and blue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724360" y="260280"/>
            <a:ext cx="22417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 Demi"/>
              </a:rPr>
              <a:t>Insects</a:t>
            </a:r>
            <a:endParaRPr b="1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00:38:53Z</dcterms:created>
  <dc:creator>phong.trang</dc:creator>
  <dc:description/>
  <dc:language>en-US</dc:language>
  <cp:lastModifiedBy>phong.trang</cp:lastModifiedBy>
  <dcterms:modified xsi:type="dcterms:W3CDTF">2009-06-19T00:47:45Z</dcterms:modified>
  <cp:revision>3</cp:revision>
  <dc:subject/>
  <dc:title>Slide 1</dc:title>
</cp:coreProperties>
</file>